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38E-ADE2-4BDA-AC5B-D623ED05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B58-3D21-4386-827E-89B2844F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16F-7D20-4263-BCA6-A4C8FCCB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31B-9C4A-4C70-A85C-A8883E26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F3B-0297-41FD-93C6-032E2C9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1AF-6093-4F17-A150-AE0C6B8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348-D4A7-40E2-B736-8EA63CB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5CE-C4F5-49E4-B9B0-0CA54CF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C2D-6823-47B0-BA28-A3BFB17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719-44DA-4C4E-924C-58BA146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43A-E747-4DDB-83BC-909660B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2C0-9B84-4E40-8B00-3662114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468-F2E8-4A89-BDF1-7455AA715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18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9"/>
          <p:cNvSpPr/>
          <p:nvPr/>
        </p:nvSpPr>
        <p:spPr>
          <a:xfrm>
            <a:off x="622440" y="380880"/>
            <a:ext cx="6705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Electronic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622440" y="1523880"/>
            <a:ext cx="806436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1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iode can be used as a rec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0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use these de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E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D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hermisto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eed swit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e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22440" y="380880"/>
            <a:ext cx="6705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8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Electronic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22440" y="1523880"/>
            <a:ext cx="806436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ic gates and the trut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use logic gates 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ombine sensors, and logic gates in useful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5-09T17:13:51Z</dcterms:modified>
  <cp:revision>29</cp:revision>
  <dc:subject>Physics for You Support File</dc:subject>
  <dc:title>Physics for You</dc:title>
</cp:coreProperties>
</file>